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2314-76E9-4752-9A47-AE75589CD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5C5E-7859-4D13-B663-B56BBE44D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964E-7F9A-4DA6-9FCF-524FA699B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278B-E449-498C-A959-A624BFF98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BA335-0DF2-47F7-BC6C-52DABD835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A96D0-A134-4C8C-8A63-451D2A77C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D9A35-21BE-4673-A278-D93EECA09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30478-6964-45B4-9C78-7DA3AFC2B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218BD-B0DE-4FBD-BC18-395DA91F2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92F6B-BEC8-4EF1-9B6E-5F9A7C27D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2DC03-3E8B-48EB-881B-33213140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345A-FE1A-4411-A0D1-D5DD95338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F1F35-2A07-41BF-A2B8-9DC44D77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08676-4177-4C16-82CF-2E6BE6A4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D5430-7A00-4A79-978E-0C31BF8BB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722B6-0209-49E8-A669-58CFD1CB0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54B0C-581E-4D4F-BEAE-6614E6B96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9FC5-B3D1-4740-AAC5-263099BBD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F91E-BF55-40C5-A951-83E6DFD92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8FBD-A336-4E16-9083-940584EE9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9249-1A9C-47CD-9B34-B148C9B5C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7A51-7DBB-46DB-832F-C3EFD93A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428C-A5D4-42BB-B792-0CB2A359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903E-90E6-4B11-8FBD-43EDDBB1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8CA59-9BA6-4373-B3DA-1795B2CC1281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AF08B-8025-4F0A-9699-A9C831DAA3FF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3rdcallforproposals" TargetMode="External"/><Relationship Id="rId3" Type="http://schemas.openxmlformats.org/officeDocument/2006/relationships/hyperlink" Target="http://www.husk-cbc.eu/3rdcallforproposals" TargetMode="External"/><Relationship Id="rId4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DaxlinePro-Regular"/>
              </a:rPr>
              <a:t>Magyarország-Szlovákia Határon Átnyúló Együttműködési Program 2007-2013</a:t>
            </a: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336600"/>
                </a:solidFill>
                <a:latin typeface="DaxlinePro-Regular"/>
              </a:rPr>
              <a:t>INFO NAP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36600"/>
                </a:solidFill>
                <a:latin typeface="DaxlinePro-Regular"/>
              </a:rPr>
              <a:t>3. pályázati felhív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DaxlinePro-Regular"/>
              </a:rPr>
              <a:t>2011.01.27. E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6588000" y="558972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DaxlinePro-Regular"/>
              </a:rPr>
              <a:t>Biriki Arian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43280" y="-360"/>
            <a:ext cx="63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DaxlinePro-Regular"/>
              </a:rPr>
              <a:t>A pályázatok benyújtásának módja, hely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1280" y="2781360"/>
            <a:ext cx="8229600" cy="295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HU-SK CBC Program Közös Szakmai Titkárság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VÁTI Nonprofit Kf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Gellérthegy u. 30-32.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H-1016 Budapest, Magyarorszá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Pályázati felhívás hivatkozási száma: HUSK/10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1341360"/>
            <a:ext cx="822960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DaxlinePro-Regular"/>
              </a:rPr>
              <a:t>IMIR 2007-2013 Front Office Application M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ff"/>
                </a:solidFill>
                <a:uFillTx/>
                <a:latin typeface="DaxlinePro-Regular"/>
                <a:hlinkClick r:id="rId2"/>
              </a:rPr>
              <a:t>http</a:t>
            </a:r>
            <a:r>
              <a:rPr b="0" lang="hu-HU" sz="2800" spc="-1" strike="noStrike" u="sng">
                <a:solidFill>
                  <a:srgbClr val="0000ff"/>
                </a:solidFill>
                <a:uFillTx/>
                <a:latin typeface="DaxlinePro-Regular"/>
                <a:hlinkClick r:id="rId3"/>
              </a:rPr>
              <a:t>://www.husk-cbc.eu/3rdcallforpropos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Ami segít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ályázati felhívással kapcsolatos minden információ és dokumentum megtalálható a honlapunkon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www.husk-cbc.e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elhívá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útmutat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ormanyomtatvány és melléklete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ormanyomtatvány kitöltési útmutató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Útmutató a költségek elszámolhatóságáho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Értékelő táblázat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Megvalósíthatósági tanulmány szerkezet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öszönöm a figyelme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riki Arian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-SK J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Általános információ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A pályázati felhívás érvényessége </a:t>
            </a: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2010.12.01 - 2011.02.28.</a:t>
            </a:r>
            <a:br>
              <a:rPr sz="3200"/>
            </a:b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ERFA: 10 365 801 EUR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A projektek időtartama max. 24 hó leh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1.1.2 Üzleti együttműködések elősegítése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1 936 941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 25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1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1.1 Vízgazdálkodás (árvíz- és belvízvédelem)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5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2 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1.2 Tanulmányok, tervek és képzések (Vízgazdálkodás, árvíz- és belvízvédele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720 593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2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4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5.1 Szélessávú internet kiépíté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 208 267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2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1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5.2 Közösségi csatlakozási programok, média; az információáramlás elősegíté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1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 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25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axlinePro-Regular"/>
              </a:rPr>
              <a:t>Részletes információkat az intézkedésekrő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DaxlinePro-Regular"/>
              </a:rPr>
              <a:t>Pályázati útmutató 1.3 fejezetéb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axlinePro-Regular"/>
              </a:rPr>
              <a:t>olvashatnak.</a:t>
            </a:r>
            <a:r>
              <a:rPr b="1" lang="en-US" sz="32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DaxlinePro-Regular"/>
              </a:rPr>
              <a:t>Beadási határidő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 pályázatot és a mellékleteket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angolul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kell benyújtani </a:t>
            </a:r>
            <a:r>
              <a:rPr b="0" lang="en-US" sz="1600" spc="-1" strike="noStrike">
                <a:solidFill>
                  <a:srgbClr val="000000"/>
                </a:solidFill>
                <a:latin typeface="DaxlinePro-Regular"/>
              </a:rPr>
              <a:t>(kivéve a VP nyilatkozat – nemzeti nyelv, az IMIR 2007-2013 generálj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z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IMIR 2007-2013 Front Office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rendszeren keresztül elektronikus formába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február 28-ig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(a rendszer 2011.01.03. óta nyitva ál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 mellékletek és nyomtatványok </a:t>
            </a:r>
            <a:r>
              <a:rPr b="0" lang="en-US" sz="2000" spc="-1" strike="noStrike">
                <a:solidFill>
                  <a:srgbClr val="cc0000"/>
                </a:solidFill>
                <a:latin typeface="DaxlinePro-Regular"/>
              </a:rPr>
              <a:t>postára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adási határidej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március 4. 23.5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Személyesen/meghatalmazott által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március 4. 12.00-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09:21Z</dcterms:created>
  <dc:creator>birikiarianna</dc:creator>
  <dc:description/>
  <dc:language>en-US</dc:language>
  <cp:lastModifiedBy>TorokZsolt</cp:lastModifiedBy>
  <dcterms:modified xsi:type="dcterms:W3CDTF">2011-01-26T13:19:58Z</dcterms:modified>
  <cp:revision>53</cp:revision>
  <dc:subject/>
  <dc:title>Info nap 3. pályázati felhívás</dc:title>
</cp:coreProperties>
</file>